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306-C93F-4400-A7DA-5F96B817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9E8-9D69-49F0-B1EA-45B9B056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939-11C6-4F4E-9F63-5E02A680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96E-33F4-40B1-9F97-FB3A8BEA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F60-37BC-4A66-9727-1CF6BE2D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97B4-EFF6-4744-89E7-DB2DA337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115C-83EE-4883-92F5-37FE79A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E256-9F62-44D3-B717-04B4A2B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3A40-927A-42FB-B00D-2C9AD19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23EC-CCB5-402A-8C66-141DFF6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F462-E337-48BE-B855-88576C8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61E-245C-4E5D-AA92-E69BB37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8B27-2A3D-4BBE-8ACE-14E317A5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1F1-9593-43F3-BACB-47B22811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554-05C1-43C7-8B51-E142B7E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EB1E-E1AF-48CB-ABA9-8FE8A77F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2CAE-E819-4B6F-A851-BA9437E0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5F2-CD4D-43E7-9725-300A95C9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94E-F6E6-4E69-91F7-BDA9A57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E51-4786-43F5-AF90-0A47460A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3F2-43E0-4052-B672-048C523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057-5D51-4BB2-AF2A-6C53B0B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0A1-8968-4557-B939-F8CE726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31C-A59B-40C1-B8E4-8DEF46A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C3EB-FAA1-4DEB-B984-37594F6C4C1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F035-5FD1-4ADC-8A75-D25C528639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66"/>
                </a:solidFill>
                <a:latin typeface="Arial"/>
              </a:rPr>
              <a:t>NÜKLEİK ASİTLE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ÜNİTE ÜRÜN DOSYASI SUNUM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MİNE HATİPOĞL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EDEFL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Öğrencilerin kendi bilgilerini kullanarak farklı yollarla çözüm üretmelerini sağla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Araştırma isteklerini ortaya çıka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orumluluk alarak engelleri aşabileceklerinin farkına varmalarını sağla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İletişim ve etkileşim ile öğrenmelerini kolaylaştı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Yaratıcı düşünme becerilerini ortaya çıka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ÖZ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475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Organizmanın bütün özelliklerini depo eden moleküller yönetici molekül olarak bilinen, nükleik asitlerdir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Bu ünitede öğrencilerin genetik bilgi taşıyan canlıların üremelerin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yaşamsal olayları gerçekleştirmelerini(solunum fotosentez,prote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sentezi…)</a:t>
            </a: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sağlayan nükleik asitlerin (DNA,RNA) yapı,görev ve farklılıklarını tanımaları sağlanacaktı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4154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Öğretim Programı Tasarım Sorular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mel Soru </a:t>
            </a:r>
            <a:br>
              <a:rPr sz="2000"/>
            </a:b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nne babamıza benzerliğimiz nereden gelmekt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Ünite Soruları</a:t>
            </a:r>
            <a:br>
              <a:rPr sz="2000"/>
            </a:b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1)Bir canlının anne babasına benzeme oranının,diğer canlılara benzeme oranından fazla olmasının nedeni n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2)A,T,G,C ve C harflerini kullanarak anlamlı ve anlamsız üç harfi kaç sözcük oluşturabilirsiniz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3)Şeker hastalığının nedenlerinden birisi olan insülin yetersizliği nasıl oluşu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İçerik Soruları</a:t>
            </a:r>
            <a:br>
              <a:rPr sz="1800"/>
            </a:b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1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NA ile RNA arasındaki yapısal farklılıklar nelerdir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2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NA nın kendini eşlemesinin önemi n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3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Bir türün bireylerinde DNA lar arasındaki farklılığın nedenleri ne olabil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4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RNA nın DNA aracılığı ile sentezlenmesinin önemini açıklayınız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5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Bir bireyin kardeşine olan benzerliğini nedenini açıklayınız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KAZANDIRILMAK İSTENEN 21.YÜZYIL BECERİLERİ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Yeniliğin geliştiği alanlarda yaratıcı fikirlerimle somut ve yararlı yardımlarda bulunurum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nlamaya yönelik doğru akıl yürütme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oblem çözmek ve soruları yanıtlamak üzere bilgiyi sınırlandırmak, çözümlemek ve birleştirme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Ortak bir amaca ulaşabilmek için gerekli çabayı gösterecek şekilde esnek ve istekli olmak ve takım çalışması yapabilmek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İşbirliğine dayalı çalışmalar için sorumluluğu paylaş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oblemlerin çözümüne yönelik olarak; bilgiye yeterli ve etkili düzeyde ulaşmak, bilgiyi eleştirel ve yeterli düzeyde değerlendirmek, doğru ve yaratıcı bir şekilde kullan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ilgiyi araştırmak, düzenlemek, değerlendirmek ve paylaşmak üzere teknolojiyi araç olarak kullanmak, ve bilginin erişimine ve kullanımına yönelik olarak etik ve yasal konularda temel bir anlayışa sahip ol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EĞERLENDİRME ÖLÇÜTLER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nin başında KWL ölçütü,ön değerlendirme testi ile öğrencilerin başlangıç bilgi düzeyleri ölçülece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nin işlenişi esnasında ara değerlendirme testleri ile öğrencilerin gelişim düzeyleri ölçülece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 sonunda yapılacak kavram haritası,bulmaca, yapılandırılmış grit çalışmaları değerlendirme sınavı ile öğrencilerin kazanımları ölçülece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4:35:08Z</dcterms:created>
  <dc:creator>samsung</dc:creator>
  <dc:description/>
  <dc:language>en-US</dc:language>
  <cp:lastModifiedBy>samsung</cp:lastModifiedBy>
  <dcterms:modified xsi:type="dcterms:W3CDTF">2010-12-17T11:28:28Z</dcterms:modified>
  <cp:revision>3</cp:revision>
  <dc:subject/>
  <dc:title>NÜKLEİK ASİTLER</dc:title>
</cp:coreProperties>
</file>